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FCB-FF5E-4A04-8DCB-84FF76F6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1D7-F220-449E-ABD1-B4EAFB01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7E8-0FE2-4131-B8A1-BD39B0E0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CEA-AF57-45B3-89F5-71F2CFA4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54F-319C-41B4-B2E7-92D7C771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3D3-F7EE-44A2-AD4C-DA3EAABD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AD8-3826-41F9-97FB-69A42A6E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3FD-12F0-4BA6-AECC-B652EEAC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8B2-C6BB-48BD-8970-9348C2FC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73F-462F-404F-829B-B644EE15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B02-999B-492E-B169-FD273E9A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B84-585B-4D76-9D5B-ABE0F27B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4E43-02BC-4AC1-BE27-E7D1CE00F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405360"/>
            <a:ext cx="1752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1920" y="99036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7760" y="533160"/>
            <a:ext cx="2971800" cy="6095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0440" y="380520"/>
            <a:ext cx="25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405360"/>
            <a:ext cx="1752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1920" y="99036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7760" y="533160"/>
            <a:ext cx="2971800" cy="609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0440" y="380520"/>
            <a:ext cx="25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3:05:01Z</dcterms:created>
  <dc:creator>Sharon Shelhamer</dc:creator>
  <dc:description/>
  <dc:language>en-US</dc:language>
  <cp:lastModifiedBy>Sharon Shelhamer</cp:lastModifiedBy>
  <dcterms:modified xsi:type="dcterms:W3CDTF">2011-09-25T13:16:36Z</dcterms:modified>
  <cp:revision>2</cp:revision>
  <dc:subject/>
  <dc:title>Slide 1</dc:title>
</cp:coreProperties>
</file>